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26B-7D38-4759-BF66-5377021C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D48-6531-4455-9200-94BB89A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C72-0530-41A4-B952-A7FCB212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E6C-8B0C-4F8B-8B48-3CFC92AB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AD-BE74-4DA8-BD73-FF0D3A1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FA6-D4AF-4CE4-B112-30307E82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0AE-E027-466B-A127-0C4F39A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71B-F673-45AB-977D-443B43DD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995-B089-40D6-BD43-DCA2D66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354-F34C-42AB-81D2-267EBAF9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786-B49C-488B-896E-5A5BE63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4F3-15B3-4974-933A-23FD759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0D00-A2EA-4630-A9C9-171016F2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 rot="21447600">
            <a:off x="4425480" y="0"/>
            <a:ext cx="432000" cy="3141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威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雨中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 rot="20866200">
            <a:off x="3536640" y="285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他她     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 rot="20754600">
            <a:off x="2765520" y="2997000"/>
            <a:ext cx="792000" cy="51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劳力顿 格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纳格  卡西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利  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rot="20301600">
            <a:off x="1749600" y="3718080"/>
            <a:ext cx="360360" cy="43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拜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 rot="20412600">
            <a:off x="1476360" y="4221000"/>
            <a:ext cx="79200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春堂大药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20907600">
            <a:off x="1618920" y="3211560"/>
            <a:ext cx="1150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 rot="20412600">
            <a:off x="1619280" y="4581360"/>
            <a:ext cx="79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正融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 rot="20048400">
            <a:off x="2916000" y="5300640"/>
            <a:ext cx="180720" cy="59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 rot="20048400">
            <a:off x="4003560" y="5871960"/>
            <a:ext cx="1494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20048400">
            <a:off x="3564000" y="6092640"/>
            <a:ext cx="14904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 rot="20082600">
            <a:off x="2771280" y="5949720"/>
            <a:ext cx="3747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 rot="4003800">
            <a:off x="2430720" y="4944960"/>
            <a:ext cx="5634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 rot="20226600">
            <a:off x="3346200" y="5367240"/>
            <a:ext cx="215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 rot="20410800">
            <a:off x="4000680" y="5229360"/>
            <a:ext cx="29556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坤金店  中国黄金  天泽龙泰  诺千金  铭泽钻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 rot="18845400">
            <a:off x="6742800" y="4425480"/>
            <a:ext cx="296640" cy="463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俪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18650400">
            <a:off x="6825240" y="4239360"/>
            <a:ext cx="301680" cy="25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 rot="16728600">
            <a:off x="7176240" y="4282200"/>
            <a:ext cx="296640" cy="463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 rot="16728600">
            <a:off x="7005600" y="3089160"/>
            <a:ext cx="216000" cy="463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 rot="21383400">
            <a:off x="6626160" y="2886120"/>
            <a:ext cx="32220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 rot="21383400">
            <a:off x="6587640" y="2492280"/>
            <a:ext cx="325440" cy="398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 rot="21127200">
            <a:off x="6473880" y="1123560"/>
            <a:ext cx="360360" cy="142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域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e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根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内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 rot="21226800">
            <a:off x="6372000" y="980640"/>
            <a:ext cx="3585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 rot="21393000">
            <a:off x="6659280" y="765000"/>
            <a:ext cx="431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 rot="16728600">
            <a:off x="6842880" y="797400"/>
            <a:ext cx="139680" cy="506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鞋美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 rot="201600">
            <a:off x="5796000" y="475920"/>
            <a:ext cx="1008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  嘉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5508720" y="115920"/>
            <a:ext cx="28728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丽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紫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4788000" y="0"/>
            <a:ext cx="720720" cy="18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 rot="20389800">
            <a:off x="3634920" y="5445000"/>
            <a:ext cx="28908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缘与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 rot="20389800">
            <a:off x="3995640" y="5229000"/>
            <a:ext cx="287280" cy="27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 rot="20389800">
            <a:off x="4356000" y="5084280"/>
            <a:ext cx="36036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 rot="20389800">
            <a:off x="485928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 rot="20389800">
            <a:off x="5292720" y="4797000"/>
            <a:ext cx="28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明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7"/>
          <p:cNvSpPr/>
          <p:nvPr/>
        </p:nvSpPr>
        <p:spPr>
          <a:xfrm rot="20389800">
            <a:off x="5724360" y="465264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 rot="20389800">
            <a:off x="6227640" y="450828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 rot="20389800">
            <a:off x="3419640" y="5084280"/>
            <a:ext cx="2854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青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山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居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0"/>
          <p:cNvSpPr/>
          <p:nvPr/>
        </p:nvSpPr>
        <p:spPr>
          <a:xfrm rot="20203800">
            <a:off x="378000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1"/>
          <p:cNvSpPr/>
          <p:nvPr/>
        </p:nvSpPr>
        <p:spPr>
          <a:xfrm rot="20389800">
            <a:off x="4211640" y="4723920"/>
            <a:ext cx="28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2"/>
          <p:cNvSpPr/>
          <p:nvPr/>
        </p:nvSpPr>
        <p:spPr>
          <a:xfrm rot="20389800">
            <a:off x="4716360" y="4581360"/>
            <a:ext cx="28908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3"/>
          <p:cNvSpPr/>
          <p:nvPr/>
        </p:nvSpPr>
        <p:spPr>
          <a:xfrm rot="20389800">
            <a:off x="298764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九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4"/>
          <p:cNvSpPr/>
          <p:nvPr/>
        </p:nvSpPr>
        <p:spPr>
          <a:xfrm rot="20389800">
            <a:off x="3132000" y="443664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御龙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5"/>
          <p:cNvSpPr/>
          <p:nvPr/>
        </p:nvSpPr>
        <p:spPr>
          <a:xfrm rot="20389800">
            <a:off x="3276360" y="4797360"/>
            <a:ext cx="28872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6"/>
          <p:cNvSpPr/>
          <p:nvPr/>
        </p:nvSpPr>
        <p:spPr>
          <a:xfrm rot="20038200">
            <a:off x="3634920" y="4652640"/>
            <a:ext cx="28908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秀雅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7"/>
          <p:cNvSpPr/>
          <p:nvPr/>
        </p:nvSpPr>
        <p:spPr>
          <a:xfrm rot="20389800">
            <a:off x="4066920" y="443700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8"/>
          <p:cNvSpPr/>
          <p:nvPr/>
        </p:nvSpPr>
        <p:spPr>
          <a:xfrm rot="20389800">
            <a:off x="3924000" y="4149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9"/>
          <p:cNvSpPr/>
          <p:nvPr/>
        </p:nvSpPr>
        <p:spPr>
          <a:xfrm rot="20162400">
            <a:off x="3492360" y="429228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树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0"/>
          <p:cNvSpPr/>
          <p:nvPr/>
        </p:nvSpPr>
        <p:spPr>
          <a:xfrm rot="20389800">
            <a:off x="3276360" y="3933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"/>
          <p:cNvSpPr/>
          <p:nvPr/>
        </p:nvSpPr>
        <p:spPr>
          <a:xfrm rot="20389800">
            <a:off x="2771640" y="4581000"/>
            <a:ext cx="28764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石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2"/>
          <p:cNvSpPr/>
          <p:nvPr/>
        </p:nvSpPr>
        <p:spPr>
          <a:xfrm rot="20577000">
            <a:off x="2556000" y="422100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信德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3"/>
          <p:cNvSpPr/>
          <p:nvPr/>
        </p:nvSpPr>
        <p:spPr>
          <a:xfrm rot="20389800">
            <a:off x="2916360" y="4076280"/>
            <a:ext cx="287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瑾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靓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 rot="20389800">
            <a:off x="4582800" y="428940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 rot="20389800">
            <a:off x="3708000" y="378900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 rot="20389800">
            <a:off x="5303520" y="450540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 rot="20389800">
            <a:off x="4932000" y="378936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/>
          <p:cNvSpPr/>
          <p:nvPr/>
        </p:nvSpPr>
        <p:spPr>
          <a:xfrm rot="20766000">
            <a:off x="4932360" y="328428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/>
          <p:cNvSpPr/>
          <p:nvPr/>
        </p:nvSpPr>
        <p:spPr>
          <a:xfrm rot="20578200">
            <a:off x="4500720" y="3357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珀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/>
          <p:cNvSpPr/>
          <p:nvPr/>
        </p:nvSpPr>
        <p:spPr>
          <a:xfrm rot="20840400">
            <a:off x="4140000" y="342900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华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 rot="20389800">
            <a:off x="3634920" y="342900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束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时尚生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3"/>
          <p:cNvSpPr/>
          <p:nvPr/>
        </p:nvSpPr>
        <p:spPr>
          <a:xfrm rot="20615400">
            <a:off x="3132000" y="357336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4"/>
          <p:cNvSpPr/>
          <p:nvPr/>
        </p:nvSpPr>
        <p:spPr>
          <a:xfrm rot="20698800">
            <a:off x="2700000" y="371628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5"/>
          <p:cNvSpPr/>
          <p:nvPr/>
        </p:nvSpPr>
        <p:spPr>
          <a:xfrm rot="20920200">
            <a:off x="2268000" y="378936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5867280" y="299736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6156360" y="263700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伴凯斯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5867280" y="263700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5796000" y="1565280"/>
            <a:ext cx="2887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查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6084720" y="1555920"/>
            <a:ext cx="287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3"/>
          <p:cNvSpPr/>
          <p:nvPr/>
        </p:nvSpPr>
        <p:spPr>
          <a:xfrm rot="21357600">
            <a:off x="5724360" y="765000"/>
            <a:ext cx="28908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4"/>
          <p:cNvSpPr/>
          <p:nvPr/>
        </p:nvSpPr>
        <p:spPr>
          <a:xfrm rot="21282600">
            <a:off x="6012000" y="764640"/>
            <a:ext cx="288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罗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5"/>
          <p:cNvSpPr/>
          <p:nvPr/>
        </p:nvSpPr>
        <p:spPr>
          <a:xfrm>
            <a:off x="5003640" y="26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蚂蚁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"/>
          <p:cNvSpPr/>
          <p:nvPr/>
        </p:nvSpPr>
        <p:spPr>
          <a:xfrm>
            <a:off x="5003640" y="692280"/>
            <a:ext cx="28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恩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人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7"/>
          <p:cNvSpPr/>
          <p:nvPr/>
        </p:nvSpPr>
        <p:spPr>
          <a:xfrm>
            <a:off x="5292720" y="692280"/>
            <a:ext cx="2872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伯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船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洛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8"/>
          <p:cNvSpPr/>
          <p:nvPr/>
        </p:nvSpPr>
        <p:spPr>
          <a:xfrm>
            <a:off x="5076720" y="1484280"/>
            <a:ext cx="289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9"/>
          <p:cNvSpPr/>
          <p:nvPr/>
        </p:nvSpPr>
        <p:spPr>
          <a:xfrm>
            <a:off x="5364000" y="1484280"/>
            <a:ext cx="289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萨罗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欢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0"/>
          <p:cNvSpPr/>
          <p:nvPr/>
        </p:nvSpPr>
        <p:spPr>
          <a:xfrm>
            <a:off x="5076720" y="292428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1"/>
          <p:cNvSpPr/>
          <p:nvPr/>
        </p:nvSpPr>
        <p:spPr>
          <a:xfrm>
            <a:off x="5076720" y="256536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贝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2"/>
          <p:cNvSpPr/>
          <p:nvPr/>
        </p:nvSpPr>
        <p:spPr>
          <a:xfrm>
            <a:off x="5364000" y="2565360"/>
            <a:ext cx="287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3"/>
          <p:cNvSpPr/>
          <p:nvPr/>
        </p:nvSpPr>
        <p:spPr>
          <a:xfrm rot="20389800">
            <a:off x="5940360" y="3933360"/>
            <a:ext cx="287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4"/>
          <p:cNvSpPr/>
          <p:nvPr/>
        </p:nvSpPr>
        <p:spPr>
          <a:xfrm rot="20389800">
            <a:off x="5076360" y="414972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 rot="20389800">
            <a:off x="5579640" y="400536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 rot="20279400">
            <a:off x="8483760" y="2558520"/>
            <a:ext cx="358560" cy="1784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以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班尼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特斯邦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820000" y="4292640"/>
            <a:ext cx="324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 rot="20071200">
            <a:off x="8027640" y="2276280"/>
            <a:ext cx="431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 rot="20938200">
            <a:off x="6806880" y="1253880"/>
            <a:ext cx="500040" cy="1222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rot="20071200">
            <a:off x="6873480" y="2160360"/>
            <a:ext cx="150660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     波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435640" y="981000"/>
            <a:ext cx="16574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     艾夫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932360" y="981000"/>
            <a:ext cx="431640" cy="216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衬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340000" y="404640"/>
            <a:ext cx="28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五木      报喜鸟      捷利尼亚     奥步       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340000" y="907920"/>
            <a:ext cx="3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杉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979640" y="1268280"/>
            <a:ext cx="36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900000" y="2060640"/>
            <a:ext cx="2872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900000" y="3068640"/>
            <a:ext cx="2160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 rot="16200000">
            <a:off x="2484360" y="1699920"/>
            <a:ext cx="57636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斯雷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霍拉西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鲍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约翰费雷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4427640" y="306864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 rot="20407200">
            <a:off x="5275440" y="3321000"/>
            <a:ext cx="504720" cy="2841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暇步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 rot="20173200">
            <a:off x="6163920" y="5414760"/>
            <a:ext cx="137160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  梦特娇  暇步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 rot="20105400">
            <a:off x="7525800" y="4989240"/>
            <a:ext cx="3477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 rot="20005800">
            <a:off x="8083080" y="4944600"/>
            <a:ext cx="5032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佐丹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 rot="20005800">
            <a:off x="8532360" y="4797000"/>
            <a:ext cx="270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619280" y="404640"/>
            <a:ext cx="720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美容会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900000" y="692280"/>
            <a:ext cx="719280" cy="108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OCO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咖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987640" y="1197000"/>
            <a:ext cx="28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3276720" y="119700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森 仕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276720" y="1628640"/>
            <a:ext cx="64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郎 圣大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140360" y="1197000"/>
            <a:ext cx="93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4140360" y="1628640"/>
            <a:ext cx="93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漫侬  蓝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4140360" y="227664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邦德诗 卡奴迪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4140360" y="256536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曼斯 圣宝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2987640" y="227664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特  圣吉  恺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荫  卡丹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2987640" y="256536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莱士 爱迪丹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1979640" y="227664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  卡美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1979640" y="2565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 英国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1332000" y="2060640"/>
            <a:ext cx="503280" cy="431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开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 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1332000" y="2492280"/>
            <a:ext cx="503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圣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伯兰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0"/>
          <p:cNvSpPr/>
          <p:nvPr/>
        </p:nvSpPr>
        <p:spPr>
          <a:xfrm rot="14752200">
            <a:off x="6345720" y="3238920"/>
            <a:ext cx="482760" cy="43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 rot="20071200">
            <a:off x="7596360" y="2997000"/>
            <a:ext cx="42516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活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茜雅朵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 rot="20071200">
            <a:off x="8100720" y="4437000"/>
            <a:ext cx="431640" cy="214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 rot="20071200">
            <a:off x="7457760" y="4106520"/>
            <a:ext cx="288720" cy="214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 rot="20071200">
            <a:off x="8074080" y="3809880"/>
            <a:ext cx="288720" cy="40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暗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 rot="20071200">
            <a:off x="6245280" y="4552560"/>
            <a:ext cx="1211040" cy="515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  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 佐丹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七匹狼  万里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811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 rot="20071200">
            <a:off x="6858000" y="3699000"/>
            <a:ext cx="289080" cy="668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 rot="20071200">
            <a:off x="6156360" y="3933720"/>
            <a:ext cx="649080" cy="303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动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 rot="20071200">
            <a:off x="6300720" y="4220640"/>
            <a:ext cx="649440" cy="303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 rot="20071200">
            <a:off x="6012000" y="4076640"/>
            <a:ext cx="288720" cy="66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vi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 rot="20071200">
            <a:off x="7235640" y="3141360"/>
            <a:ext cx="35388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l n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 rot="20111400">
            <a:off x="7407000" y="452592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 rot="20111400">
            <a:off x="7179840" y="4287960"/>
            <a:ext cx="67788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假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 rot="20188200">
            <a:off x="6934320" y="3935520"/>
            <a:ext cx="2174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 rot="20188200">
            <a:off x="7467480" y="3713040"/>
            <a:ext cx="2174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邓禄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 rot="20111400">
            <a:off x="6738840" y="3300120"/>
            <a:ext cx="847800" cy="407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桑扶兰  芬狄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y p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 rot="20111400">
            <a:off x="6381360" y="2639880"/>
            <a:ext cx="847800" cy="285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婷美 古今 百利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 rot="20111400">
            <a:off x="6500880" y="2855520"/>
            <a:ext cx="847800" cy="276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普菲琳 诗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丝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 rot="19829400">
            <a:off x="6157440" y="2204640"/>
            <a:ext cx="647640" cy="358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黛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 rot="19829400">
            <a:off x="6013080" y="1916280"/>
            <a:ext cx="503280" cy="358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特妮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645080" y="170028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45080" y="2060640"/>
            <a:ext cx="21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45080" y="2421000"/>
            <a:ext cx="2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 rot="20020800">
            <a:off x="8126280" y="3782880"/>
            <a:ext cx="432000" cy="47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852720" y="184464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莱国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爱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娅伦 诗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852720" y="2349360"/>
            <a:ext cx="6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y.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3132000" y="184464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格 轩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莎尔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唐明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0" y="2349360"/>
            <a:ext cx="6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anu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一席之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芙艾迪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197080" y="1844640"/>
            <a:ext cx="792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珈姿莱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伊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因为  华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2197080" y="2349360"/>
            <a:ext cx="7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稀   娅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549440" y="2421000"/>
            <a:ext cx="647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浩宣 斐格利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1692360" y="2637000"/>
            <a:ext cx="504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蕾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柏贝菲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1549440" y="2637000"/>
            <a:ext cx="14436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 rot="20147400">
            <a:off x="6083280" y="4368600"/>
            <a:ext cx="86364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9"/>
          <p:cNvSpPr/>
          <p:nvPr/>
        </p:nvSpPr>
        <p:spPr>
          <a:xfrm rot="14752200">
            <a:off x="5813280" y="3063240"/>
            <a:ext cx="577800" cy="43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唐朱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雾雨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人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 rot="20148000">
            <a:off x="5792760" y="3838320"/>
            <a:ext cx="934920" cy="57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桑田布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若诗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轩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姿锦 艺元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 rot="19997400">
            <a:off x="7248600" y="1606680"/>
            <a:ext cx="430200" cy="1081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莉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诗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赏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诗兰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2"/>
          <p:cNvSpPr/>
          <p:nvPr/>
        </p:nvSpPr>
        <p:spPr>
          <a:xfrm rot="19997400">
            <a:off x="7524720" y="2637000"/>
            <a:ext cx="43200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赏心岁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 rot="19997400">
            <a:off x="7813800" y="2781000"/>
            <a:ext cx="431640" cy="10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非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蔓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乙佰乙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 rot="2808600">
            <a:off x="6157440" y="1268280"/>
            <a:ext cx="93672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莉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 rot="21372000">
            <a:off x="4859280" y="1316160"/>
            <a:ext cx="1224000" cy="358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        欧迪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1765440" y="907920"/>
            <a:ext cx="3024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丹巴尼 芬瑞 舒朗 美之藤伊莎菲尔 玛蒂可敦奴 领姿 雅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116000" y="2421000"/>
            <a:ext cx="289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1116000" y="3141720"/>
            <a:ext cx="3600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姿子 茜茜薇恩 莲 皮尔卡丹 歌蒂诗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MOOM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天奴 维格娜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 rot="3858000">
            <a:off x="4123800" y="4135680"/>
            <a:ext cx="23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声雨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 rot="20188200">
            <a:off x="5508720" y="5661000"/>
            <a:ext cx="21744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 rot="19829400">
            <a:off x="6066000" y="5373720"/>
            <a:ext cx="720720" cy="37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3"/>
          <p:cNvSpPr/>
          <p:nvPr/>
        </p:nvSpPr>
        <p:spPr>
          <a:xfrm>
            <a:off x="5221440" y="1773360"/>
            <a:ext cx="71892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基础内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2268360" y="2852640"/>
            <a:ext cx="302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町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&amp;co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       MAN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763640" y="2276640"/>
            <a:ext cx="504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484360" y="907920"/>
            <a:ext cx="2808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%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ly         mikiba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771640" y="1628640"/>
            <a:ext cx="936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淑女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细   佰金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771640" y="2133720"/>
            <a:ext cx="93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芙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娜丽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幻走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g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924360" y="1628640"/>
            <a:ext cx="936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思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谜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GI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D 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924360" y="2133720"/>
            <a:ext cx="93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布同   红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播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076720" y="1628640"/>
            <a:ext cx="28728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几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076720" y="1989000"/>
            <a:ext cx="2872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VE &amp;L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076720" y="2421000"/>
            <a:ext cx="28728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292720" y="1268280"/>
            <a:ext cx="1440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 rot="20152800">
            <a:off x="6732360" y="2349360"/>
            <a:ext cx="360360" cy="50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 rot="20152800">
            <a:off x="7081920" y="2328840"/>
            <a:ext cx="587160" cy="34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 rot="4066800">
            <a:off x="6981120" y="3053880"/>
            <a:ext cx="237492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cki     nancy.k    ao2     d’zz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 rot="20152800">
            <a:off x="7508880" y="4365360"/>
            <a:ext cx="934920" cy="3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G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 rot="20152800">
            <a:off x="6165720" y="4551480"/>
            <a:ext cx="11685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亦谷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 rot="20152800">
            <a:off x="7164360" y="3428640"/>
            <a:ext cx="587520" cy="34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普菲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 rot="20152800">
            <a:off x="6878520" y="3052800"/>
            <a:ext cx="784440" cy="34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芙 兰瑟 维尔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琪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 rot="20152800">
            <a:off x="5928840" y="3514320"/>
            <a:ext cx="863640" cy="36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se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非凡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 rot="20152800">
            <a:off x="6086520" y="3827160"/>
            <a:ext cx="852480" cy="3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斯狄娃 艾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468360" y="2205000"/>
            <a:ext cx="1295280" cy="1152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贝乐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 rot="20208600">
            <a:off x="5435280" y="3068280"/>
            <a:ext cx="431640" cy="22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ZZ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 rot="3664800">
            <a:off x="6307560" y="1737720"/>
            <a:ext cx="11397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 rot="591600">
            <a:off x="5940000" y="1773000"/>
            <a:ext cx="432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 rot="20986800">
            <a:off x="6382800" y="1914120"/>
            <a:ext cx="2160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谭木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银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0"/>
          <p:cNvSpPr/>
          <p:nvPr/>
        </p:nvSpPr>
        <p:spPr>
          <a:xfrm rot="2094000">
            <a:off x="6224400" y="2841120"/>
            <a:ext cx="26640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妮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971640" y="2997360"/>
            <a:ext cx="151272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司登             艾莱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56000" y="3141720"/>
            <a:ext cx="431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当毛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987640" y="3284640"/>
            <a:ext cx="2305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丝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art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莱家纺    梦洁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 rot="20104200">
            <a:off x="5386320" y="3501720"/>
            <a:ext cx="432000" cy="21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始祖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乐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 rot="20076000">
            <a:off x="6284880" y="537696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国山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 rot="20076000">
            <a:off x="6722640" y="5124600"/>
            <a:ext cx="6526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 rot="20157000">
            <a:off x="7392600" y="5009760"/>
            <a:ext cx="863640" cy="36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 rot="20103600">
            <a:off x="8240400" y="4794120"/>
            <a:ext cx="59688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 rot="20181000">
            <a:off x="8118360" y="1846080"/>
            <a:ext cx="468360" cy="29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鸿星尔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0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435640" y="1484280"/>
            <a:ext cx="1441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     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2484360" y="1052640"/>
            <a:ext cx="287964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山      东达蒙古王     皮皮狗       兆君       春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5003640" y="134136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4716360" y="1844640"/>
            <a:ext cx="647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佳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弗洛 利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067280" y="1484280"/>
            <a:ext cx="57600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佳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3348000" y="1484280"/>
            <a:ext cx="64764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2771640" y="1484280"/>
            <a:ext cx="43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2700360" y="2205000"/>
            <a:ext cx="5032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绒立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洛索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47640" y="2492280"/>
            <a:ext cx="93672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羽杰  鸭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奥  雪中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1692360" y="2276640"/>
            <a:ext cx="72072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羽 杰克丹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2340000" y="1484280"/>
            <a:ext cx="21600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科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9971600">
            <a:off x="1332000" y="1412640"/>
            <a:ext cx="21564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 rot="20502000">
            <a:off x="1547640" y="184464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18305400">
            <a:off x="1008000" y="108900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大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468360" y="126828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684360" y="1628640"/>
            <a:ext cx="5745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里兰 阿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迪 艾尚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1042920" y="2349360"/>
            <a:ext cx="433440" cy="64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3348000" y="2205000"/>
            <a:ext cx="647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妮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天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4"/>
          <p:cNvSpPr/>
          <p:nvPr/>
        </p:nvSpPr>
        <p:spPr>
          <a:xfrm>
            <a:off x="3348000" y="2852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昭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4067280" y="2205000"/>
            <a:ext cx="5760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尚美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夫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多喜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4067280" y="2852640"/>
            <a:ext cx="57600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路易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7"/>
          <p:cNvSpPr/>
          <p:nvPr/>
        </p:nvSpPr>
        <p:spPr>
          <a:xfrm>
            <a:off x="4716360" y="2205000"/>
            <a:ext cx="647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多样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8"/>
          <p:cNvSpPr/>
          <p:nvPr/>
        </p:nvSpPr>
        <p:spPr>
          <a:xfrm>
            <a:off x="4716360" y="2852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黛富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9"/>
          <p:cNvSpPr/>
          <p:nvPr/>
        </p:nvSpPr>
        <p:spPr>
          <a:xfrm rot="19950000">
            <a:off x="6796080" y="1969560"/>
            <a:ext cx="3826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0"/>
          <p:cNvSpPr/>
          <p:nvPr/>
        </p:nvSpPr>
        <p:spPr>
          <a:xfrm rot="20328600">
            <a:off x="6432480" y="3286080"/>
            <a:ext cx="1462320" cy="5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  安踏   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 rot="20227200">
            <a:off x="5866920" y="3933720"/>
            <a:ext cx="503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 rot="20199600">
            <a:off x="6205320" y="4438440"/>
            <a:ext cx="50292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弗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 rot="20307600">
            <a:off x="6804000" y="4220640"/>
            <a:ext cx="503280" cy="70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狮戴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彪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4"/>
          <p:cNvSpPr/>
          <p:nvPr/>
        </p:nvSpPr>
        <p:spPr>
          <a:xfrm rot="20157000">
            <a:off x="7340400" y="3941640"/>
            <a:ext cx="71892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 rot="19727400">
            <a:off x="6973920" y="1173240"/>
            <a:ext cx="431640" cy="109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匹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8"/>
          <p:cNvSpPr/>
          <p:nvPr/>
        </p:nvSpPr>
        <p:spPr>
          <a:xfrm rot="5022000">
            <a:off x="6022800" y="2409840"/>
            <a:ext cx="863640" cy="164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1763640" y="836640"/>
            <a:ext cx="287964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627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美食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932360" y="981000"/>
            <a:ext cx="1152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美的 史密斯 汉诺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能率  奥肯  欧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932360" y="1484280"/>
            <a:ext cx="9349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酷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2360" y="2421000"/>
            <a:ext cx="14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716360" y="1628640"/>
            <a:ext cx="28728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鲜果时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 rot="19917600">
            <a:off x="6300360" y="907920"/>
            <a:ext cx="43200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華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6877080" y="1557360"/>
            <a:ext cx="431640" cy="3276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创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撒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 rot="20440800">
            <a:off x="6000840" y="1466640"/>
            <a:ext cx="36036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443640" y="2060640"/>
            <a:ext cx="28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长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尼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156360" y="2349360"/>
            <a:ext cx="216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6588000" y="3068640"/>
            <a:ext cx="289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惠而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罗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6156360" y="306864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信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尚鹏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6516720" y="357336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 rot="20014200">
            <a:off x="5454720" y="355572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 rot="20014200">
            <a:off x="5867280" y="3357360"/>
            <a:ext cx="335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 rot="20014200">
            <a:off x="5651640" y="393336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 rot="20014200">
            <a:off x="6012000" y="371592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美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 rot="20014200">
            <a:off x="5846760" y="420696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 小天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容声  格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 rot="20197800">
            <a:off x="5018040" y="4721040"/>
            <a:ext cx="792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吃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 rot="20197800">
            <a:off x="4788000" y="4220640"/>
            <a:ext cx="79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锅品面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 rot="3921600">
            <a:off x="4669920" y="3054240"/>
            <a:ext cx="5270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野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 rot="3921600">
            <a:off x="4827600" y="3635640"/>
            <a:ext cx="72072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 rot="664200">
            <a:off x="5796000" y="2707920"/>
            <a:ext cx="2174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4859280" y="2060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 rot="19536600">
            <a:off x="5302080" y="3250800"/>
            <a:ext cx="55404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腾 超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5796000" y="1844640"/>
            <a:ext cx="216000" cy="79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得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亚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6227640" y="3429000"/>
            <a:ext cx="28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孩视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明可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01:59Z</dcterms:created>
  <dc:creator>微软用户</dc:creator>
  <dc:description/>
  <dc:language>en-US</dc:language>
  <cp:lastModifiedBy>微软用户</cp:lastModifiedBy>
  <dcterms:modified xsi:type="dcterms:W3CDTF">2013-03-22T07:40:38Z</dcterms:modified>
  <cp:revision>41</cp:revision>
  <dc:subject/>
  <dc:title>幻灯片 1</dc:title>
</cp:coreProperties>
</file>